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18B-11FC-4AD9-8350-B9EE9621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496-16F3-40C4-8C56-DB48F2B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8C9-2E82-4AB3-9A1B-01D0EF87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679-12A8-40CF-A749-D173971E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A4E9-E9C3-46B3-8505-ED42317F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E47A-1130-49F1-8E3A-3773A48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2917-46C5-43AB-ADF7-27016A8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B6F8-7FDB-45C9-9D5F-BF837829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C3F1-C6CD-475E-BEDE-E2C4695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BE8B-E252-4B31-AE29-ADF2252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895-9718-46BF-B0A1-2B1D762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80F-B604-4C66-8B20-BB57DB9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A387-AE5E-4B66-95DE-4C6CF26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78D-239C-4256-9A00-6C3E498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0EF-8B89-4531-8234-F84C9034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E090-C9B0-4E5B-B3FB-BF5594B7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A134-5E4F-4160-B014-83E7C38B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661-B048-4E72-ADFA-B9A56B06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988-B269-47DE-8958-01BBE8E5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64C-C94F-4C24-88E4-2A51F3DA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47E-F2CF-41A9-944F-997EC405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1E3-3776-4E3B-B5B1-4AE07E1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D0D-574B-439F-9613-646B805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51B-C6E5-4B51-9DD4-29E2A4AA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F14-6C86-46D0-8D3D-647FB3842F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99C-6773-4DB0-8018-0267369C64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Caslon Pro Bold"/>
              </a:rPr>
              <a:t>COMPLEX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Caslon Pro Bold"/>
              </a:rPr>
              <a:t>COMPLEX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dobe Caslon Pro Bold"/>
              </a:rPr>
              <a:t>Compulsion </a:t>
            </a:r>
            <a:r>
              <a:rPr b="0" i="1" lang="ru-RU" sz="2400" spc="-1" strike="noStrike">
                <a:solidFill>
                  <a:srgbClr val="000000"/>
                </a:solidFill>
                <a:latin typeface="Adobe Caslon Pro Bold"/>
              </a:rPr>
              <a:t>(заставить, распорядиться, доби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Her steps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made him turn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his h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(!!! bare i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he nois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caused her to awak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caused the telegramme to be sen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at o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can’t get her to star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doing home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had her go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there.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(!!!bare i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sense perce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to hear, to see, to watch, to fee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to observe, to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!!!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These verbs in the Active Voice are used with 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BARE Infinitive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!!!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n the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Passive voice the particle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TO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appears!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e.g.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felt the blood rush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into my cheeks.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saw Jim enter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e roo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Note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f “to see” means “to understand” Complex Object is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use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dobe Caslon Pro Bold"/>
              </a:rPr>
              <a:t>I saw that he didn’t realize the da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Not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f “to hear” means “to learn”, “to be told”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a clause or a gerund is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I hear that he left for the South/of his leaving for the South.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After the verbs </a:t>
            </a:r>
            <a:r>
              <a:rPr b="0" lang="en-US" sz="3200" spc="-1" strike="noStrike">
                <a:solidFill>
                  <a:srgbClr val="ff0000"/>
                </a:solidFill>
                <a:latin typeface="Adobe Caslon Pro Bold"/>
              </a:rPr>
              <a:t>“to know”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dobe Caslon Pro Bold"/>
              </a:rPr>
              <a:t>“to help”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both variants of the infinitive can follow!!! In modern English </a:t>
            </a:r>
            <a:r>
              <a:rPr b="0" i="1" lang="en-US" sz="3200" spc="-1" strike="noStrike">
                <a:solidFill>
                  <a:srgbClr val="000000"/>
                </a:solidFill>
                <a:latin typeface="Adobe Caslon Pro Bold"/>
              </a:rPr>
              <a:t>a bare infinitive is more comm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But in Passive Voic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dobe Caslon Pro Bold"/>
              </a:rPr>
              <a:t>TO-inf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is us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’ve never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known him (to) be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so mean.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Could you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help me (to) fix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e c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She was known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have worked as a teac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dobe Caslon Pro Bold"/>
              </a:rPr>
              <a:t>The verbs used with a bare infinitive in Active Vo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ke, to force, to have (compul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l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assive “to allow” is used inst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ee, to hear, to watch, to obser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In Passive Voice they take TO-inf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Caslon Pro Bold"/>
              </a:rPr>
              <a:t>Compare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557360"/>
          <a:ext cx="8929800" cy="3889440"/>
        </p:xfrm>
        <a:graphic>
          <a:graphicData uri="http://schemas.openxmlformats.org/drawingml/2006/table">
            <a:tbl>
              <a:tblPr/>
              <a:tblGrid>
                <a:gridCol w="4392720"/>
                <a:gridCol w="45370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33ff"/>
                          </a:solidFill>
                          <a:latin typeface="Adobe Caslon Pro Bold"/>
                        </a:rPr>
                        <a:t>Complex Object + Infin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33ff"/>
                          </a:solidFill>
                          <a:latin typeface="Adobe Caslon Pro Bold"/>
                        </a:rPr>
                        <a:t>Complex Object + Participle 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w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roo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noticed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wn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elt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mbl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eard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w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ba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noticed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wn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elt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mbl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eard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dobe Caslon Pro Bold"/>
              </a:rPr>
              <a:t>Complex Sub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dobe Caslon Pro Bold"/>
              </a:rPr>
              <a:t>noun/pronoun      +</a:t>
            </a:r>
            <a:r>
              <a:rPr b="0" lang="ru-RU" sz="48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dobe Caslon Pro Bold"/>
              </a:rPr>
              <a:t>is said/is believed/turns out etc +     infinitive/perfect infini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Caslon Pro Bold"/>
              </a:rPr>
              <a:t>In all voices we use CS with particle TO 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In Russian Complex Subject sounds like </a:t>
            </a:r>
            <a:r>
              <a:rPr b="0" i="1" lang="ru-RU" sz="3200" spc="-1" strike="noStrike">
                <a:solidFill>
                  <a:srgbClr val="000000"/>
                </a:solidFill>
                <a:latin typeface="Adobe Caslon Pro Bold"/>
              </a:rPr>
              <a:t>неопределенно-личное предложение (говорят, считают, известн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Complex Subject is us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sai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hear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see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know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expec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believ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considered                                    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see, to feel, to hear…- sense per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know, to expect, to believe…- ment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make, to order, to force…- order, request, per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say, to inform, to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appear, to seem, to happen, to pr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turn ou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be likely, to be sure, to be ce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Complex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Personal                    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dobe Caslon Pro Bold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is know (to be)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dobe Caslon Pro Bold"/>
              </a:rPr>
              <a:t>It</a:t>
            </a: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is known (tha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a liar.                                he  is a liar.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 flipH="1">
            <a:off x="2627280" y="126828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859280" y="1268280"/>
            <a:ext cx="1368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Caslon Pro Bold"/>
              </a:rPr>
              <a:t>Complex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dobe Caslon Pro Bold"/>
              </a:rPr>
              <a:t>noun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(Mum, teacher) + a verb (wants) + </a:t>
            </a:r>
            <a:r>
              <a:rPr b="0" lang="en-US" sz="5400" spc="-1" strike="noStrike">
                <a:solidFill>
                  <a:srgbClr val="ff0000"/>
                </a:solidFill>
                <a:latin typeface="Adobe Caslon Pro Bold"/>
              </a:rPr>
              <a:t>pronoun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(him..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infinitive/bare infin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          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(to do his home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dobe Caslon Pro Bold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was heard</a:t>
            </a:r>
            <a:r>
              <a:rPr b="0" lang="ru-RU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laugh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merr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Anne’s father was heard approaching at that mo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express the process we use Participl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was believed to b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honest and intellig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Juli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was made to take par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in the tr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is said to have becom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famou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completed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he child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seems to b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aslee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ussia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 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ill be translated as a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ith conjunctions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,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, что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dobe Caslon Pro Bold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wanted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the director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of this TNC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to stop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the work of this sweatsho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(noun in the common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mad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him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buy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her a new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(pronoun in the objective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Caslon Pro Bold"/>
              </a:rPr>
              <a:t>The verbs used with Complex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wish &amp; int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wish, to want, to desire, would li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mean, to intend, to ch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mental activity (generally with the verb “to b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know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dobe Caslon Pro Bold"/>
              </a:rPr>
              <a:t>to expect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, to believe, to think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consider, to suppose, to expec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imagine, to find, to feel, to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dobe Caslon Pro Bold"/>
              </a:rPr>
              <a:t>Example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Adobe Caslon Pro Bold"/>
              </a:rPr>
              <a:t>want you to start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for the trip immediate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didn’t </a:t>
            </a:r>
            <a:r>
              <a:rPr b="0" lang="en-US" sz="4000" spc="-1" strike="noStrike">
                <a:solidFill>
                  <a:srgbClr val="ff0000"/>
                </a:solidFill>
                <a:latin typeface="Adobe Caslon Pro Bold"/>
              </a:rPr>
              <a:t>mean him to learn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the dialogue by he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don’t </a:t>
            </a:r>
            <a:r>
              <a:rPr b="0" lang="en-US" sz="4000" spc="-1" strike="noStrike">
                <a:solidFill>
                  <a:srgbClr val="ff0000"/>
                </a:solidFill>
                <a:latin typeface="Adobe Caslon Pro Bold"/>
              </a:rPr>
              <a:t>choose you to live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in the hot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dobe Caslon Pro Bold"/>
              </a:rPr>
              <a:t>Example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know him to be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e most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unscrupulous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man I ever knew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f you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suppose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is young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lady to be intelligent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enough, you’re definitely mista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Everybody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expected her to marry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The doctor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found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Pete’s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heart to have stopped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2 hours before. </a:t>
            </a:r>
            <a:r>
              <a:rPr b="1" i="1" lang="en-US" sz="3600" spc="-1" strike="noStrike">
                <a:solidFill>
                  <a:srgbClr val="000000"/>
                </a:solidFill>
                <a:latin typeface="Adobe Caslon Pro Bold"/>
              </a:rPr>
              <a:t>(perfect infinitive for prior ac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33ff"/>
                </a:solidFill>
                <a:latin typeface="Adobe Caslon Pro Bold"/>
              </a:rPr>
              <a:t>NB!</a:t>
            </a: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The verbs 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to think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to consider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,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to find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 can be used </a:t>
            </a:r>
            <a:r>
              <a:rPr b="1" lang="en-US" sz="3600" spc="-1" strike="noStrike" u="sng">
                <a:solidFill>
                  <a:srgbClr val="9933ff"/>
                </a:solidFill>
                <a:uFillTx/>
                <a:latin typeface="Adobe Caslon Pro Bold"/>
              </a:rPr>
              <a:t>without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 </a:t>
            </a:r>
            <a:r>
              <a:rPr b="1" lang="en-US" sz="3600" spc="-1" strike="noStrike" u="sng">
                <a:solidFill>
                  <a:srgbClr val="9933ff"/>
                </a:solidFill>
                <a:uFillTx/>
                <a:latin typeface="Adobe Caslon Pro Bold"/>
              </a:rPr>
              <a:t>an infinitive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2184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dobe Caslon Pro Bold"/>
              </a:rPr>
              <a:t>thought her beautiful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dobe Caslon Pro Bold"/>
              </a:rPr>
              <a:t>found the key idea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of the lectio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dobe Caslon Pro Bold"/>
              </a:rPr>
              <a:t>interesting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feelings &amp; emo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to like, to dislike, to love, to hate, can’t stand/bear</a:t>
            </a:r>
            <a:r>
              <a:rPr b="1" lang="en-US" sz="24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e.g. 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dobe Caslon Pro Bold"/>
              </a:rPr>
              <a:t>dislike you to talk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 like that</a:t>
            </a:r>
            <a:r>
              <a:rPr b="1" lang="ru-RU" sz="2800" spc="-1" strike="noStrike">
                <a:solidFill>
                  <a:srgbClr val="000000"/>
                </a:solidFill>
                <a:latin typeface="Adobe Caslon Pro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dobe Caslon Pro Bold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dobe Caslon Pro Bold"/>
              </a:rPr>
              <a:t>can’t bear you to behave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 so nas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order &amp; permission + compul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to order,  to allow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let</a:t>
            </a: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, to ask for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have</a:t>
            </a: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, to suffer, to get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make</a:t>
            </a: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, to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e.g.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dobe Caslon Pro Bold"/>
              </a:rPr>
              <a:t>ordered the car to be ready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by 6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Jam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dobe Caslon Pro Bold"/>
              </a:rPr>
              <a:t>suffered his wife to wear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such short ski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obe Caslon Pro Bold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dobe Caslon Pro Bold"/>
              </a:rPr>
              <a:t>разрешать неохотно, скрепя сердце</a:t>
            </a:r>
            <a:r>
              <a:rPr b="0" i="1" lang="ru-RU" sz="2400" spc="-1" strike="noStrike">
                <a:solidFill>
                  <a:srgbClr val="000000"/>
                </a:solidFill>
                <a:latin typeface="Adobe Caslon Pro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Caslon Pro Bold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I won’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dobe Caslon Pro Bold"/>
              </a:rPr>
              <a:t>have you speak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 like tha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dobe Caslon Pro Bold"/>
              </a:rPr>
              <a:t>(close to “to suffer” in the mea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obe Caslon Pro Bold"/>
              </a:rPr>
              <a:t>NB!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The underlined words don’t take TO-inf in active voice! In Passive voice “to let” is substituted with “to allow”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4:52:12Z</dcterms:created>
  <dc:creator>Elizaveta</dc:creator>
  <dc:description/>
  <dc:language>en-US</dc:language>
  <cp:lastModifiedBy>Lizzie</cp:lastModifiedBy>
  <dcterms:modified xsi:type="dcterms:W3CDTF">2012-12-13T15:55:55Z</dcterms:modified>
  <cp:revision>26</cp:revision>
  <dc:subject/>
  <dc:title>COMPLEX OBJECT</dc:title>
</cp:coreProperties>
</file>